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81A-316A-4651-928E-5E7EFD99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78C-AB78-4824-BCBA-28D21A06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9DF-C5B2-4AEF-B491-3E47BE73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A7E-191A-43E6-9580-E54E4FE1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2CE-F274-4E87-ADC9-B36109D0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3A5-D62A-402E-8669-C6B0DD86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29B-FDC1-491C-B485-B08696AA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AF3-2E40-4F44-930E-96AA194C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785-F421-41E6-9C90-2483573D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15F-7AB5-46B2-AAC8-1A648141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B70-C9A5-4961-8986-85137A39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B04-3385-41F9-8543-C6DA7809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34CD-6A8B-489E-8B09-042026C068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9933"/>
                </a:solidFill>
                <a:latin typeface="Arial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250920" y="765000"/>
            <a:ext cx="60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224b50"/>
                </a:solidFill>
                <a:latin typeface="Arial"/>
              </a:rPr>
              <a:t>Free PPT Backgr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00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2-12-25T19:19:50Z</dcterms:modified>
  <cp:revision>749</cp:revision>
  <dc:subject/>
  <dc:title>Diapositiva 1</dc:title>
</cp:coreProperties>
</file>